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3B9-9B53-4A5A-96C9-AE29A7CF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5CA-1023-459F-A832-8C00CEF7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E38-17EE-4D81-9CE4-9054BE60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D8E-D7E8-488A-B423-0799D760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7102-3B22-4873-84B5-6F1F9FFC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39AD-3704-43E1-9372-39F3E01A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CDAB-8800-4789-9A6E-D862BA5F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8B84-BFCC-4949-B5BE-2B571C91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62F8-F07B-439F-B4E0-1C575B69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10C8-438A-4D3D-9C2E-08979338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0333-C567-4AC7-B909-65678BA5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7BB-11F4-4106-A529-713263A1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A14A-A182-4C5E-9DD5-AD2D2509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8ABF-2C8A-42B1-B5FE-CF533E20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E932-03DF-455A-A065-F81044E6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D979-B1E9-45C4-98E7-C3C873C8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F2BD-C7EC-429B-8832-24629C8C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3C2DC-E947-4183-A40A-B5D064B1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CC98D-DF84-4D7E-B0A4-2B5B0A5E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224A3-EB31-4247-BB4A-FA346E03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C58CF-BE78-476B-83C7-05AF8633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41AD-7CDB-4A5B-8C2A-41279716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5DB-7392-4BF9-822D-A8E48906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7761A-4032-4336-BDE0-39A7EFC4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24948-4015-491B-9538-2A6C0D53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11F6B-4CFF-4EBC-BDF0-F400B282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674DC-34AA-4A58-9449-26C3E7E5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E728-9065-4136-AF35-32F30958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964D9-0881-434F-9333-0BD1330C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540B0-5A0F-4E65-AE2B-23C35EDA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C459B-9D50-4CF0-B87F-CD75CF85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5E2D4-E185-4C7C-B418-6DC79F2B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6703F-E273-4E45-9FB0-B454686D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9AB-827F-4309-BF0E-D9565F3F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D7F31-BB4B-48BC-A724-75A5099B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6260C-7B0C-4ED1-9B4F-55FDC53F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3DB50-CE55-46CA-9608-8502DAC8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3505F-9AC7-449D-A36B-1377F6F7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8BAE9-C2E8-4841-807F-779EDA65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AA55E-92AB-44B6-9928-5ECDC1BD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72F64-109B-485A-AFDC-99B5E96B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DFFD2-A722-43CF-B35C-B7CE7F15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91467-933E-4337-922D-FEDF037C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A18FE-B564-4E34-8693-FE5F44AD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B40-2D2E-4A9B-BDA2-0CEC9ABF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2EF5B-8B31-4F0E-B04F-9A3EC5A1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E35FF-13A3-4F24-9FD0-185CDC40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60FAF-EB7B-4805-BB7B-A5B7F867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700C2-DEFF-4F57-9276-0259AAB9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9D7C7-B795-481F-BD84-1C418374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751A0-7C76-4761-8708-806D996A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F627C-FADE-4214-A497-663AAC31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BC116-C033-4E24-8141-6F9CFFCB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1EF9B-26BE-44AB-8299-149C4AE3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63C53-9FD6-4CB7-B887-F4474CAE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9F8-EA0B-4BE7-BE3E-03F1F972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FAAD2-5C30-4C25-86EF-F4A6982B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FE1CA-BB41-490D-AB5A-4055EA11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83C7E-462E-4AB5-B2F6-D567D896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B3D01-15D2-452A-919B-D77DE776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ACC63-AFA1-4120-AEDF-5702F61A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683D2-BAA7-4BC8-AF45-172F3707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A466A-3F84-4D7D-86F0-72EE3D2C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D5379-DB52-4A83-8006-347B66D7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94751-3D2D-4A50-AE32-729D5171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1C3A5-0234-470E-A3D0-DAB5FCD6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7EA-DEB1-423D-809A-1FC72BE2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0B986-7A85-4CBB-8CB8-1382A470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FA67F-847B-43FC-AACE-18540719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80F95-2150-4774-B5EB-69B10E71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D8409-2EF5-4EF1-8C33-81EA1B6D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3CF3D-9F48-42A9-B456-D9AE5C0F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47AC5-375D-411F-8180-74126CDE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0C9D0-9ADF-489A-8267-6FF5C120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90790-443A-4799-9FC5-904C9BB6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E6740-D5A4-479F-AF26-69FA4A5E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29707-A27A-4042-A0EF-FA565133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1C7-A8B3-4563-8F1A-DFAA2C9B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14602-92B0-49A7-9412-9D5ED523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32C2A-799C-412E-9B53-03F7F127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CE7A4-8BFA-44EE-9EEB-88624F47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30CEC-0C2D-49F1-B096-DF42390B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AE56A-1646-4FCF-85CB-C1B0DDC4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09B-741A-4F1C-91BA-A2BAB8E9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6EFD-5923-4BCD-8BAF-64D482ADBB14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6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06CD-A42C-4A38-8343-DDC863415812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AB48-15E9-420E-B37E-40D68ACD6C6C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8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7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0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9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07F6-F202-4A28-9C13-F0717BD40BB5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7BA1-1F39-433B-BB55-689E28B94C58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D2C1-3510-4A4C-BB8C-99FCBF323076}" type="slidenum">
              <a:rPr b="0" lang="es-E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85A1-94D1-4C3D-8FA9-4BA250893FE5}" type="slidenum">
              <a:rPr b="0" lang="es-E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galeon.hispavista.com/talleresproductivos/img/inca1&amp;imgrefurl=http://talleresproductivos.galeon.com/productos1902501.html&amp;usg=__wj-0CN3de4IFakcn7hT_SYLiwRE=&amp;h=720&amp;w=960&amp;sz=123&amp;hl=es&amp;start=3&amp;um=1&amp;tbnid=vra4Z7w_CWCyjM:&amp;tbnh=111&amp;tbnw=148&amp;prev=/images%3Fq%3Dtejidos%2Binca%26hl%3Des%26um%3D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1.bp.blogspot.com/_tTFdYezGXMQ/Sc004ZLACxI/AAAAAAAADYk/SJVvf9QHnOM/s400/DIOS-WIRACOCHA.jpg&amp;imgrefurl=http://diosesdelperu.blogspot.com/2005/03/wiracocha-el-creador-y-ordenador.html&amp;usg=__SNMWPj9f_kBU-fdiDIsgw4lc9ig=&amp;h=245&amp;w=319&amp;sz=25&amp;hl=es&amp;start=19&amp;um=1&amp;tbnid=JaSLK02LsN1S2M:&amp;tbnh=91&amp;tbnw=118&amp;prev=/images%3Fq%3Dwiracocha%26hl%3Des%26um%3D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www.infoperu.com/pics/raymi2002/0772inca.jpg&amp;imgrefurl=http://www.infoperu.com/es/view.php%3Flang%3Des%26p%3D108&amp;usg=__aPIu5bhJNuU4XMzNdhloYjL6WSU=&amp;h=549&amp;w=391&amp;sz=32&amp;hl=es&amp;start=1&amp;um=1&amp;tbnid=j4feziiG3DWk-M:&amp;tbnh=133&amp;tbnw=95&amp;prev=/images%3Fq%3Dinca%26hl%3Des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imagenes.mailxmail.com/cursos/imagenes/7309_6_1.jpg&amp;imgrefurl=http://www.mailxmail.com/curso-cereales-producto-alimenticio-saludable/maiz&amp;usg=__IS5tFy13rz9pxmtE7g37RGGmDgc=&amp;h=480&amp;w=360&amp;sz=38&amp;hl=es&amp;start=2&amp;um=1&amp;tbnid=ZhCDB6kZ5YeoiM:&amp;tbnh=129&amp;tbnw=97&amp;prev=/images%3Fq%3Dmaiz%26hl%3Des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.pe/imgres?imgurl=http://4.bp.blogspot.com/_E2BlrYybGU4/R5Czar1PxPI/AAAAAAAAAnY/hBUVVQgzcqk/s400/camote2.jpg&amp;imgrefurl=http://whywomencry.blogspot.com/2008/01/cure-for-dengue.html&amp;usg=__thgNE34tiARcHEtD9uwlFcW7VlI=&amp;h=312&amp;w=400&amp;sz=39&amp;hl=es&amp;start=11&amp;um=1&amp;tbnid=q6Ze-v3lMxs6oM:&amp;tbnh=97&amp;tbnw=124&amp;prev=/images%3Fq%3Dcamote%26hl%3Des%26um%3D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.pe/imgres?imgurl=http://www.lamolina.edu.pe/FACULTAD/ciencias/hidroponia/semillas/foto-pimiento-rojo-enza.jpg&amp;imgrefurl=http://www.lamolina.edu.pe/FACULTAD/ciencias/hidroponia/semillas/&amp;usg=__ZgRhBDvZA9fh2ivj0WNvARXrhto=&amp;h=1263&amp;w=946&amp;sz=627&amp;hl=es&amp;start=4&amp;um=1&amp;tbnid=k5rVbqFA9OQSUM:&amp;tbnh=150&amp;tbnw=112&amp;prev=/images%3Fq%3Dpimiento%26hl%3Des%26um%3D1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m.pe/imgres?imgurl=http://lagranjadefraume.files.wordpress.com/2008/12/oct5-08-0062.jpg&amp;imgrefurl=http://lagranjadefraume.wordpress.com/about/&amp;usg=__CQMMyRcx9xcNz3ysuyD5-4YIXeE=&amp;h=1704&amp;w=2272&amp;sz=1449&amp;hl=es&amp;start=2&amp;um=1&amp;tbnid=RLQsJYkB410DzM:&amp;tbnh=112&amp;tbnw=150&amp;prev=/images%3Fq%3Dzapayo%26hl%3Des%26um%3D1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www.profesorenlinea.cl/imagenUniversalH/incas005.jpg&amp;imgrefurl=http://www.profesorenlinea.cl/universalhistoria/Incas.htm&amp;usg=__Dk4C4krIs4SPowQwoNnSb-TydKg=&amp;h=592&amp;w=480&amp;sz=74&amp;hl=es&amp;start=1&amp;um=1&amp;tbnid=kHOki8v-D9Lx1M:&amp;tbnh=135&amp;tbnw=109&amp;prev=/images%3Fq%3Dinca:%2Bpolitico%26hl%3Des%26um%3D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.pe/imgres?imgurl=http://peruantiguo.files.wordpress.com/2008/09/cuxirimay.jpg&amp;imgrefurl=http://peruantiguo.wordpress.com/2008/09/25/angelina-una-historia-de-pelicula/&amp;usg=__ECLdT0ZCvHw8NknOck_VCU7ye7c=&amp;h=575&amp;w=335&amp;sz=55&amp;hl=es&amp;start=3&amp;um=1&amp;tbnid=bx3iuyxn09hzGM:&amp;tbnh=134&amp;tbnw=78&amp;prev=/images%3Fq%3Dcoya,%2Besposa%2Bdel%2Binca%26hl%3Des%26um%3D1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http://www.kutztown.edu/activities/clubs/geology/photos/Machu_Picc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1 Título" descr=""/>
          <p:cNvPicPr/>
          <p:nvPr/>
        </p:nvPicPr>
        <p:blipFill>
          <a:blip r:embed="rId2"/>
          <a:stretch/>
        </p:blipFill>
        <p:spPr>
          <a:xfrm>
            <a:off x="682560" y="0"/>
            <a:ext cx="7364520" cy="6918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749cdc"/>
                </a:solidFill>
                <a:latin typeface="Century Gothic"/>
              </a:rPr>
              <a:t>Pintura</a:t>
            </a:r>
            <a:r>
              <a:rPr b="0" lang="es-ES" sz="3900" spc="-1" strike="noStrike">
                <a:solidFill>
                  <a:srgbClr val="749cdc"/>
                </a:solidFill>
                <a:latin typeface="Century Gothic"/>
              </a:rPr>
              <a:t>:</a:t>
            </a:r>
            <a:endParaRPr b="0" lang="en-US" sz="39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entury Gothic"/>
              </a:rPr>
              <a:t>Hechos sobre mantos en piedra.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entury Gothic"/>
              </a:rPr>
              <a:t>- Vasijas de barro: podían ser pintadas.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entury Gothic"/>
              </a:rPr>
              <a:t>- Tejidos: pinturas  hechas sobre mantos de lana y uso de colores vivos.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4" name="Picture 5" descr="inca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971720"/>
            <a:ext cx="4649760" cy="3487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749cdc"/>
                </a:solidFill>
                <a:latin typeface="Century Gothic"/>
              </a:rPr>
              <a:t>Religión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50920" y="1882800"/>
            <a:ext cx="4681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Máximo dios Inca: Wiracoch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Sociedad politeísta. Sus dioses eran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- Inti (Dios Sol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- Quilla (Diosa Luna)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-Wiracocha/Pachacamac (Dioses protectore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- Villac Umo (Sumo Sacerdote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7" name="Picture 5" descr="DIOS-WIRACOCH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549360"/>
            <a:ext cx="3213000" cy="24778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inti-copia"/>
          <p:cNvPicPr/>
          <p:nvPr/>
        </p:nvPicPr>
        <p:blipFill>
          <a:blip r:embed="rId3"/>
          <a:stretch/>
        </p:blipFill>
        <p:spPr>
          <a:xfrm>
            <a:off x="5435640" y="3789360"/>
            <a:ext cx="244944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1 Título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370400" cy="14144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http://www.vagamundos.net/v3.1/img/inca_mapa_expansion.jpg"/>
          <p:cNvPicPr/>
          <p:nvPr/>
        </p:nvPicPr>
        <p:blipFill>
          <a:blip r:embed="rId2"/>
          <a:stretch/>
        </p:blipFill>
        <p:spPr>
          <a:xfrm>
            <a:off x="0" y="1143000"/>
            <a:ext cx="5786280" cy="5715000"/>
          </a:xfrm>
          <a:prstGeom prst="rect">
            <a:avLst/>
          </a:prstGeom>
          <a:ln w="0">
            <a:noFill/>
          </a:ln>
        </p:spPr>
      </p:pic>
      <p:sp>
        <p:nvSpPr>
          <p:cNvPr id="305" name="1 Título"/>
          <p:cNvSpPr/>
          <p:nvPr/>
        </p:nvSpPr>
        <p:spPr>
          <a:xfrm>
            <a:off x="4786200" y="214200"/>
            <a:ext cx="43578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5 Rectángulo"/>
          <p:cNvSpPr/>
          <p:nvPr/>
        </p:nvSpPr>
        <p:spPr>
          <a:xfrm>
            <a:off x="5857920" y="185724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Capital principal: Cuz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5857920" y="3140640"/>
            <a:ext cx="328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Sus limites abarcaron desde el sur de Colombia hasta el centro de Chile, Bolivia y Argentina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749cdc"/>
                </a:solidFill>
                <a:latin typeface="Century Gothic"/>
              </a:rPr>
              <a:t>Historia</a:t>
            </a:r>
            <a:endParaRPr b="0" lang="en-US" sz="51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9640" y="1844640"/>
            <a:ext cx="590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Los Incas, también llamados “Hijos del sol” era organizadamente una sociedad guerrera que vivía al suroeste de la Sierra del antiguo Perú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Picture 4" descr="0772inc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433600" cy="3406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1 Título" descr=""/>
          <p:cNvPicPr/>
          <p:nvPr/>
        </p:nvPicPr>
        <p:blipFill>
          <a:blip r:embed="rId1"/>
          <a:stretch/>
        </p:blipFill>
        <p:spPr>
          <a:xfrm>
            <a:off x="3133800" y="189000"/>
            <a:ext cx="34131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5435280" y="1125000"/>
            <a:ext cx="3467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Clasificada en 4 clases sociale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-  Alta nobleza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- Baja noblez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- Artesanos y campesino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- Siervo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Picture 2" descr="http://members.fortunecity.es/historperu/histoperu/inca12.jpg"/>
          <p:cNvPicPr/>
          <p:nvPr/>
        </p:nvPicPr>
        <p:blipFill>
          <a:blip r:embed="rId2"/>
          <a:stretch/>
        </p:blipFill>
        <p:spPr>
          <a:xfrm>
            <a:off x="0" y="1500120"/>
            <a:ext cx="5286240" cy="5357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357520" y="1499760"/>
            <a:ext cx="3786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Se organizaron en 4 provincias (suyos)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- Chinchaysuy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- Contisuy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- Antisuy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- Collasuy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2" descr="http://1.bp.blogspot.com/_tTFdYezGXMQ/Sf4QBY3fOEI/AAAAAAAAEOQ/CKp1afDVIbw/s400/SUYOS-1.png"/>
          <p:cNvPicPr/>
          <p:nvPr/>
        </p:nvPicPr>
        <p:blipFill>
          <a:blip r:embed="rId1"/>
          <a:stretch/>
        </p:blipFill>
        <p:spPr>
          <a:xfrm>
            <a:off x="179280" y="166680"/>
            <a:ext cx="5072040" cy="6524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749cdc"/>
                </a:solidFill>
                <a:latin typeface="Century Gothic"/>
              </a:rPr>
              <a:t>Economía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303640" y="1916280"/>
            <a:ext cx="4535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Basados en la agricultura y la ganadería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Base de alimentos : maíz, zapallo, camote, pimiento, etc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Picture 5" descr="7309_6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89000"/>
            <a:ext cx="2220840" cy="2952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camote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4508640"/>
            <a:ext cx="2333880" cy="1825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foto-pimiento-rojo-enz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189000"/>
            <a:ext cx="2043360" cy="2735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oct5-08-006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4437000"/>
            <a:ext cx="2411640" cy="2233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749cdc"/>
                </a:solidFill>
                <a:latin typeface="Century Gothic"/>
              </a:rPr>
              <a:t>Político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104560" y="1916280"/>
            <a:ext cx="493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acerdotes: ocupaban un sitio importante ante la cort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Inca: estuvo a cargo de la organización polític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Esposa del Inca: Coy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Picture 5" descr="incas0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333360"/>
            <a:ext cx="2732040" cy="3384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cuxirima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714680"/>
            <a:ext cx="19954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3213000" cy="14144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5214960" y="714240"/>
            <a:ext cx="3605040" cy="57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entury Gothic"/>
              </a:rPr>
              <a:t>Arquitectura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Se caracterizaban por las puertas y ventanas en forma de Trapeci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Sus templos  y palacios eran sencillos sin belleza ni esplendor pero de  gran resistencia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3" descr="http://www.artehistoria.jcyl.es/arte/jpg/AMT10031.jpg"/>
          <p:cNvPicPr/>
          <p:nvPr/>
        </p:nvPicPr>
        <p:blipFill>
          <a:blip r:embed="rId2"/>
          <a:stretch/>
        </p:blipFill>
        <p:spPr>
          <a:xfrm>
            <a:off x="0" y="1357200"/>
            <a:ext cx="5357880" cy="5286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5643360" y="475920"/>
            <a:ext cx="35002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Esculturas: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Trabajos en piedra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- Obras con formas geométricas</a:t>
            </a:r>
            <a:r>
              <a:rPr b="0" lang="es-ES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Pintura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Se hacia sobre mantos en piedra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- Vasijas de barro: podían ser pintada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- Tejidos: las pinturas se hacían sobre mantos de lana y usaban colores vino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0" name="Picture 2" descr="http://admin.revistacuenca.com/imgrepositorio/REVISTA%20CUENCA%20NOVIEMBRE%202008/CARAS-ESCULTURAS-GIGANTES.gif"/>
          <p:cNvPicPr/>
          <p:nvPr/>
        </p:nvPicPr>
        <p:blipFill>
          <a:blip r:embed="rId1"/>
          <a:stretch/>
        </p:blipFill>
        <p:spPr>
          <a:xfrm>
            <a:off x="0" y="0"/>
            <a:ext cx="4788000" cy="3716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http://www.estudiosgeograficos.org/Fotos/El_Camino_Inca/05_Lima/03%20Pinturas%20rupestres%20de%20Poro%20Poro.jpg"/>
          <p:cNvPicPr/>
          <p:nvPr/>
        </p:nvPicPr>
        <p:blipFill>
          <a:blip r:embed="rId2"/>
          <a:stretch/>
        </p:blipFill>
        <p:spPr>
          <a:xfrm>
            <a:off x="0" y="3933720"/>
            <a:ext cx="542916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3:26:19Z</dcterms:created>
  <dc:creator>ALEJANDRO</dc:creator>
  <dc:description/>
  <dc:language>en-US</dc:language>
  <cp:lastModifiedBy>ALEJANDRO</cp:lastModifiedBy>
  <dcterms:modified xsi:type="dcterms:W3CDTF">2009-11-12T00:12:59Z</dcterms:modified>
  <cp:revision>13</cp:revision>
  <dc:subject/>
  <dc:title>Señorío Inca</dc:title>
</cp:coreProperties>
</file>